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475245"/>
        <c:axId val="19035009"/>
      </c:barChart>
      <c:catAx>
        <c:axId val="894752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035009"/>
        <c:crosses val="autoZero"/>
        <c:auto val="1"/>
        <c:lblAlgn val="ctr"/>
        <c:lblOffset val="100"/>
        <c:noMultiLvlLbl val="0"/>
      </c:catAx>
      <c:valAx>
        <c:axId val="190350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4752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2B1B-0679-4C20-8090-4D7E71DD9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B0BC-FBCC-4B03-B732-5E92A90AB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795D-BEE7-4F8F-905D-D217059A6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A04C-AB67-4855-AB02-467A4D633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A812-70A9-4AFD-9BBC-146BC1E8B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ADB9-8B02-42EE-8B2C-B52ADC9C8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9597-981A-4B7A-82F6-A7DB7EF1F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6268-1BC6-447A-86B9-AE798860A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762D-C182-49DE-B361-FB25BE81A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D333-CA67-4FA2-A4D9-656A252E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BCC1-94D4-4BFD-8648-1F7DBE097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682B-5ED2-4943-8260-5C6FE8624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8F08A4-E4C1-4D92-8655-FB54800B8D9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