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21289"/>
        <c:axId val="895290"/>
      </c:barChart>
      <c:catAx>
        <c:axId val="66921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90"/>
        <c:crosses val="autoZero"/>
        <c:auto val="1"/>
        <c:lblAlgn val="ctr"/>
        <c:lblOffset val="100"/>
        <c:noMultiLvlLbl val="0"/>
      </c:catAx>
      <c:valAx>
        <c:axId val="895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1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310-2470-4748-A432-C1229B02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015-D072-480F-8EAA-25DE220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0F4-7980-47EE-9C16-C87A4F8E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514-0206-4E39-8A36-024B5B6C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518-B665-4D81-B111-32121B46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BC0-C615-4D6E-BE3A-7DC9CB74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236-54F3-4F17-A867-91A37FE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D6F-8CAD-473C-B1F4-B284FFC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6BB-FDF3-4B24-A3D0-7A2B4A61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D0E-C4F4-481D-828A-559A0B4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C9B-CB31-4A51-B730-5743262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EDB-B429-44A7-A77A-418F75F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7FD29-25C7-4845-A237-7663B3B7D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