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924366"/>
        <c:axId val="76443438"/>
      </c:barChart>
      <c:catAx>
        <c:axId val="589243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443438"/>
        <c:crosses val="autoZero"/>
        <c:auto val="1"/>
        <c:lblAlgn val="ctr"/>
        <c:lblOffset val="100"/>
        <c:noMultiLvlLbl val="0"/>
      </c:catAx>
      <c:valAx>
        <c:axId val="764434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9243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EE4D-5D88-4CDB-9C40-445F2BE40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922F-5E8D-4030-A2B2-B65E13B01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2C18-7432-4DB4-9525-8D81A2789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23E2-416E-4605-953A-D9C1747EB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A7BC-D6A0-49C4-9131-4657E957F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ECF9-6F48-4736-9F93-2B4994C33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D2D2-AD8C-4872-B034-87AC8F650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5876-08B9-48DB-87E8-3508107A3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63C5-9994-41C0-9222-2E7438A48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C2D7-F2E7-4075-B452-E9D85BF0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6637-279D-4E93-8264-B325BE6C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CBC0-7104-438D-9D3E-96CF3824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F9378A-3934-469E-9B8C-3310FFC093B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