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78789"/>
        <c:axId val="88730986"/>
      </c:barChart>
      <c:catAx>
        <c:axId val="43878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30986"/>
        <c:crosses val="autoZero"/>
        <c:auto val="1"/>
        <c:lblAlgn val="ctr"/>
        <c:lblOffset val="100"/>
        <c:noMultiLvlLbl val="0"/>
      </c:catAx>
      <c:valAx>
        <c:axId val="88730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78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0F9-8D3A-4E3D-8564-6D477A50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894-CDF3-4157-91B6-E66294C1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C0B-BFAD-4D1B-9C55-F2121FA0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EC49-52BA-4DA3-B98D-91898B8A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D9F-5FDD-4F31-8795-33C0E311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990-57D0-4144-8853-251E3E2C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769-33BD-4923-B313-C34842C5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509-EB16-4CA4-BC11-7AC0C694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347-E434-4067-A742-9230B124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9C1-63E5-4461-A329-F451EE97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5D5-83B8-4A59-9B39-F04498EC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65B-C219-4B86-BA3F-DF487B5D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154F1-1DC0-4602-9529-9B8E46B7DE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